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3AE4-1660-4F8A-9A5F-990E9803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5C46-BD80-4FC5-9160-15A483F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939E-1378-4E3F-AC49-65CC3799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961C-AD1C-49B2-B20A-2C47134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5513-99F2-4D3E-BBB1-ABCD76AC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2D8E-A493-4DDC-AFC1-8E4E3E59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29C5-5E38-42F9-8148-CCE94490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33B-C09C-495F-BB4A-4DA6572A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2211-F33F-400B-B675-1BE5FE0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39F-4534-4FD9-8747-AA1EE152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0DB4-04F1-4CB6-A51A-86A5F64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7E6A-42FB-480D-BE2B-60F96E6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CEF7-2A28-4C4C-A395-B3311E3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3081-20A4-42E9-A4F9-BFDEA31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27E-0117-40A1-8EDA-E0B8DB68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4A95-4BC3-437F-9FF6-FF278312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860E-3033-459D-8E41-BA576C6C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CA0E-7272-4906-9F3A-45EC69B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5963-8AEB-472B-95AD-5F5DAB7E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930D-8DBA-4D65-BDA1-F2B7869A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65B8-1161-4916-A39D-20F6A55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7803-9371-4798-97B1-D8D02F7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F3AB-DC63-4E82-A672-78FA95F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727F-A2A5-469E-9588-2F4FF48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F21-5760-400E-A889-C6F6B4B1D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F7A-D87F-480C-BA25-10C76FABA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hyperlink" Target="http://rds.yahoo.com/S=96062857/K=pbs/v=2/SID=e/l=II/R=1/SS=i/OID=d14b8999cf9c27fe/;_ylt=A9ibyGawfS5EchIB4iCJzbkF;_ylu=X3oDMTBjMHZkMjZyBHBvcwMxBHNlYwNzcg--/SIG=1ddsmo5ne/EXP=1143983920/*-http%3A//images.search.yahoo.com/search/images/view?back=http%3A%2F%2Fima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npr.org/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dfdef6"/>
                </a:solidFill>
                <a:latin typeface="Palatino"/>
              </a:rPr>
              <a:t>Student Edition:</a:t>
            </a:r>
            <a:br>
              <a:rPr sz="5400"/>
            </a:br>
            <a:r>
              <a:rPr b="1" lang="en-US" sz="3600" spc="-1" strike="noStrike">
                <a:solidFill>
                  <a:srgbClr val="dfdef6"/>
                </a:solidFill>
                <a:latin typeface="Palatino"/>
              </a:rPr>
              <a:t>Gale Info Trac Database Lesson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Palatino"/>
              </a:rPr>
              <a:t>Grades 9-12 High School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002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Celluc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200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Activity/Study Guide: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udent Edition is an accessible and reliable source for research. This activity is designed to help you learn how to use this database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One – Over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egin by accessing 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udent Edi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ad over the basic search page. What types of documents can you fin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f you aren't sure what topic you want to research, what ideas and resources are available from the first pag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hat are some ways to refine your search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Two – The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on the Toolbox found at the top of the page. What things can you get help with from he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on the Cite a Source link and print it out – keep this in your class binder as a re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Three – Marking I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arch for a top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owse through the results page and mark three reference articles that sound inform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k one magazine source, one academic journal, one news source and one multimedia source. Print your marked items page and attach it to this assignm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Cite the Source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def6"/>
                </a:solidFill>
                <a:latin typeface="Palatino"/>
              </a:rPr>
              <a:t>Standards:</a:t>
            </a:r>
            <a:r>
              <a:rPr b="0" lang="en-US" sz="4400" spc="-1" strike="noStrike">
                <a:solidFill>
                  <a:srgbClr val="dfdef6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Content Standard (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te, access, analyze, organize, synthesize, evaluate and apply information about selected public issues — identifying, describing and evaluating multiple points of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Computer Literacy and Usage Standards 9-1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udent will develop skills using a variety of computer resources to increase productivity, support creativity, conduct and evaluate research and improve commun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udent will use technology resources to improve problem solving and decision making skills and apply these skills to real world sit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4255200"/>
            <a:ext cx="81406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Information Power; Information Literacy Standards 1-4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1: The student who is information literate accesses information efficiently and effectiv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2: The student who is information literate evaluates information critically and competent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3: The student who is information literate uses information accurately and creativ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Palatino"/>
              </a:rPr>
              <a:t>Access/Audience/Overview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784872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459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57200" y="2958840"/>
            <a:ext cx="72388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s/Activities by Stud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take part in a teacher led discussion / brainstorm focusing on these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Internet is not always considered a reliable research too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can you tell if a Web site is reli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What reliable resources are available to 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access 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udent Edition – Info Tra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database based on their teacher's instru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complete the study guide provi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co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Students will be familiar with 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udent Edition datab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know how to use it and know how to find research and other helpful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def6"/>
                </a:solidFill>
                <a:latin typeface="Palatino"/>
              </a:rPr>
              <a:t>Handouts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 Edition Broch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vigation Gu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Database use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general database that would work well for creating background knowledge of a top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Edition provides a research source for many assignments that are from the following disciplines/topic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/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Featur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rovides access to multi sources: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TEXT MAGAZ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POD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REFERENC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odcasts, video and Aud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100s of sources of audio files and podcast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listening and download 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tran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y inde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ipod_photo.jpg image"/>
          <p:cNvPicPr/>
          <p:nvPr/>
        </p:nvPicPr>
        <p:blipFill>
          <a:blip r:embed="rId5"/>
          <a:stretch/>
        </p:blipFill>
        <p:spPr>
          <a:xfrm>
            <a:off x="5791320" y="1143000"/>
            <a:ext cx="1325520" cy="21906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4114800"/>
            <a:ext cx="1047600" cy="581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NPR Home 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67480" y="3352680"/>
            <a:ext cx="1190880" cy="4003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Go to fullsize image"/>
          <p:cNvPicPr/>
          <p:nvPr/>
        </p:nvPicPr>
        <p:blipFill>
          <a:blip r:embed="rId10"/>
          <a:stretch/>
        </p:blipFill>
        <p:spPr>
          <a:xfrm>
            <a:off x="7620120" y="5029200"/>
            <a:ext cx="1000080" cy="704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Go to fullsize image"/>
          <p:cNvPicPr/>
          <p:nvPr/>
        </p:nvPicPr>
        <p:blipFill>
          <a:blip r:embed="rId11"/>
          <a:stretch/>
        </p:blipFill>
        <p:spPr>
          <a:xfrm>
            <a:off x="5867280" y="4952880"/>
            <a:ext cx="1000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Tool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View any PDF document that may be linked to the artic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E-mail the article in HTML or plain-text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Generate citations in multiple form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Share links to the arti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Listen to the article or save it as an MP3 audio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Translate the article into one of 11 languages Print, download and bookmark the 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Multi Source:</a:t>
            </a:r>
            <a:br>
              <a:rPr sz="4000"/>
            </a:br>
            <a:r>
              <a:rPr b="1" lang="en-US" sz="2000" spc="-1" strike="noStrike">
                <a:solidFill>
                  <a:srgbClr val="dfdef6"/>
                </a:solidFill>
                <a:latin typeface="Palatino"/>
              </a:rPr>
              <a:t>Full Text Magazines/Newspapers/Podcasts/Reference Books/Images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238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57200" y="32767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Search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fdef6"/>
                </a:solidFill>
                <a:latin typeface="Arial"/>
              </a:rPr>
              <a:t>Subject, keyword, entire document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696080" cy="4419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>
            <a:off x="8381520" y="2971800"/>
            <a:ext cx="7621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Advanced/Boolean Search:</a:t>
            </a:r>
            <a:br>
              <a:rPr sz="4000"/>
            </a:br>
            <a:r>
              <a:rPr b="1" i="1" lang="en-US" sz="2800" spc="-1" strike="noStrike">
                <a:solidFill>
                  <a:srgbClr val="dfdef6"/>
                </a:solidFill>
                <a:latin typeface="Palatino"/>
              </a:rPr>
              <a:t>AND, OR, NO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80880" y="2324160"/>
            <a:ext cx="8229600" cy="4533840"/>
            <a:chOff x="380880" y="2324160"/>
            <a:chExt cx="8229600" cy="45338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380880" y="232416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 txBox="1"/>
            <p:nvPr/>
          </p:nvSpPr>
          <p:spPr>
            <a:xfrm>
              <a:off x="380880" y="232416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Help Feature:</a:t>
            </a:r>
            <a:br>
              <a:rPr sz="4000"/>
            </a:br>
            <a:r>
              <a:rPr b="1" i="1" lang="en-US" sz="2800" spc="-1" strike="noStrike">
                <a:solidFill>
                  <a:srgbClr val="dfdef6"/>
                </a:solidFill>
                <a:latin typeface="Palatino"/>
              </a:rPr>
              <a:t>Advanced Search feature example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2296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Search Preference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Save/Share/Send:</a:t>
            </a:r>
            <a:br>
              <a:rPr sz="4000"/>
            </a:br>
            <a:r>
              <a:rPr b="1" lang="en-US" sz="1800" spc="-1" strike="noStrike">
                <a:solidFill>
                  <a:srgbClr val="dfdef6"/>
                </a:solidFill>
                <a:latin typeface="Palatino"/>
              </a:rPr>
              <a:t>Print, Bookmark, Download file, Email, Share, Download MP3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543800" cy="47642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flipH="1">
            <a:off x="8229240" y="2514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50:10Z</dcterms:created>
  <dc:creator>celluccia</dc:creator>
  <dc:description/>
  <dc:language>en-US</dc:language>
  <cp:lastModifiedBy>Anita</cp:lastModifiedBy>
  <dcterms:modified xsi:type="dcterms:W3CDTF">2010-11-16T01:25:44Z</dcterms:modified>
  <cp:revision>12</cp:revision>
  <dc:subject/>
  <dc:title>  Student Edition: Gale Info Trac Database Lesson</dc:title>
</cp:coreProperties>
</file>